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0FBE-9203-4954-86BA-3499A8EEB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m is the separation of powers among the Federal government and the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E19-AB6E-4457-9D6A-6172564B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430-7764-4EEC-A9B1-9DDB2531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296-576C-43F4-A59D-6F70A99B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CE2-CDC5-4972-BFFB-1D754780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3A48-8CAE-48A4-BC9A-E37BF0AA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4364-741A-4E40-8A46-FFD706FC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33F5-AFAC-47D1-AA77-C237C871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BBE3-7A31-4A5B-A365-91CCB493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1FB-4ED2-49FD-BF64-F5BF0E7A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1A9F-E31F-451F-B204-F031060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B722-FA92-46F2-96A9-413FD3C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1B8-2E5F-4AA8-A651-90A1598F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ECF6-9C7A-41FE-B529-F3E3956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D66A-214C-45D9-9C2D-4A8FEB51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4CBB-664D-4782-8A68-75D6C149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C7D4-0F2A-436A-B1D3-87324209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96EB-2B38-440E-89D7-ADDC1782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4A4-46C6-4995-9DB0-98FACA7F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376-CA06-4D0C-B0FE-D72208BD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97E-A4B9-4C5C-AF2E-0FB6AB8F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BCA-56DB-4673-8213-7AB0C362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63E-3225-4433-A6F0-6D4C1C8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BDB-B877-4596-B2FA-8E53218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F67-9D4B-4335-B62F-E5E74C0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84A-7C86-462F-8230-7C8238C03F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B5F6-1957-49A9-8127-E268AAD438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ederalism: Powers Divided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ur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herent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s that belong to the national government because it is the nation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vernment of a sovereign state in the world commun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national governments possess these p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ort aliens, regulate immigration, acquire territo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357192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owers denied to the Federal Government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typ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the constit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nied becaus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il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nied becaus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ederal syste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wers reserved to the St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th amendment; Pow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 gran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National Government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 deni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can forbid persons under 18 to marry without legal con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 Doctors, lawyers etc. to have a permit to work 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wers denied to the st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owers are denied to the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can’t tax any agency or function of the 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te can’t deny a person of their life, liberty or property without due processes by law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current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urrent Powers: Powers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tate and the National government possess and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powers make it possible for a federal system of government to fun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verview of the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States have a unitary form of government: an arrangement in which a central government creates local units of government for its own convenienc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preme Law of the lan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ecause of the two levels of government which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 operating over the same people at the same ti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on and application of the Supremacy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premacy Clau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mers expected there to be issues between the two powers, so they added this clau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ng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constitution and laws and treaties of the United States are the “Supreme law of the Land” (Found in Article VI, Section 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nchpin” of the constitu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oins the Federal and St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vernments into one unit, a federal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the provision in the constitution that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kes the complex federal system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pplication of the Supremacy Claus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preme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preme court applies this law to any conflicts that ari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82296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1148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Federalism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separation of powers between the Federal Government and the State, each having its own power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3276720"/>
            <a:ext cx="9143280" cy="2971080"/>
            <a:chOff x="0" y="3276720"/>
            <a:chExt cx="9143280" cy="2971080"/>
          </a:xfrm>
        </p:grpSpPr>
        <p:cxnSp>
          <p:nvCxnSpPr>
            <p:cNvPr id="164" name="_s50202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874120" y="3161520"/>
              <a:ext cx="594720" cy="320076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0201"/>
            <p:cNvCxnSpPr>
              <a:stCxn id="168" idx="0"/>
              <a:endCxn id="166" idx="2"/>
            </p:cNvCxnSpPr>
            <p:nvPr/>
          </p:nvCxnSpPr>
          <p:spPr>
            <a:xfrm flipV="1">
              <a:off x="4571280" y="4464720"/>
              <a:ext cx="3240" cy="594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0200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2673720" y="3161520"/>
              <a:ext cx="594720" cy="320076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6" name="_s50196"/>
            <p:cNvSpPr/>
            <p:nvPr/>
          </p:nvSpPr>
          <p:spPr>
            <a:xfrm>
              <a:off x="3200040" y="3276720"/>
              <a:ext cx="2742840" cy="1188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Government Powe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0197"/>
            <p:cNvSpPr/>
            <p:nvPr/>
          </p:nvSpPr>
          <p:spPr>
            <a:xfrm>
              <a:off x="0" y="5059440"/>
              <a:ext cx="2742840" cy="1188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Federal Government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0198"/>
            <p:cNvSpPr/>
            <p:nvPr/>
          </p:nvSpPr>
          <p:spPr>
            <a:xfrm>
              <a:off x="3200040" y="5059440"/>
              <a:ext cx="2742840" cy="1188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Concurrent</a:t>
              </a: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Powe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0199"/>
            <p:cNvSpPr/>
            <p:nvPr/>
          </p:nvSpPr>
          <p:spPr>
            <a:xfrm>
              <a:off x="6400440" y="5059440"/>
              <a:ext cx="2742840" cy="1188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663300"/>
                  </a:solidFill>
                  <a:latin typeface="Tahoma"/>
                </a:rPr>
                <a:t>State Powers</a:t>
              </a: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xamples of the Supremacy clause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cCulloch  V. Maryla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irst use of the clause to settle dispute between national and stat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Fletcher V. Pe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irst use of the clause to hold a state law to be unconstitution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o Chose it?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45716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overnment Power Poses a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threat to individual liber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cause of this, the government must b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restrain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viding governmental powe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revents its abus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 framer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the constitution added it in the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mendment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w could they possibly create a new central government that would be strong enough to meet the needs of the day and would, at the same time, preserve the existing states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7339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Why Federalism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te vs. National Gover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local action in matters of local concer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Action in matters of wider conc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438280" cy="1695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2514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cessities vary from one state to another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Jersey: no self service gas 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Dakota: Voters not required to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raska: unicameral Legisl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5 states do not impose general sales tax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0"/>
            <a:ext cx="8610480" cy="67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dbbd7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Tahoma"/>
              </a:rPr>
              <a:t>Federal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ed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s denied to the federal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dbbd7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Tahoma"/>
              </a:rPr>
              <a:t>State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rved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s denied to th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dbbd7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Tahoma"/>
              </a:rPr>
              <a:t>Exclusive and Concurrent P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wers of the Federal Gover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elegated Powers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Government only has the powers granted or delegated to it in the Constitution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pressed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mplied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herent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xpressed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umerated Pow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s delegated to the National Government in so many words, spelled out expressly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 the constitu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1 Sec. 8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llect taxes, coin money, declare w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2 sec. 2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owers to presid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ake treaties, act as commander in chief in armed forces etc.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mplied Po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stated in the constitution, but reasonably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suggested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by the expressed power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: prohibited racial discrimination in granting people access to restauran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Exclusive power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” : powers exercised only by the National Government and never the stat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prevent things such as trade and coining money from becoming chaotic and impossib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14:21Z</dcterms:created>
  <dc:creator>Bob Fioramonti</dc:creator>
  <dc:description/>
  <dc:language>en-US</dc:language>
  <cp:lastModifiedBy>Bob Fioramonti</cp:lastModifiedBy>
  <dcterms:modified xsi:type="dcterms:W3CDTF">2009-10-29T02:37:47Z</dcterms:modified>
  <cp:revision>3</cp:revision>
  <dc:subject/>
  <dc:title>Slide 1</dc:title>
</cp:coreProperties>
</file>